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C6F-3E99-468E-8169-7EE17862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0DD-237E-4C33-BB78-6C843C7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976-9272-42B3-9436-27EE06EA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C2B-D950-4C3C-9AB7-0BF5C98C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C5DF-586E-4F8F-810E-FB55B42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4BF6D-771C-4B17-BFD7-A9F6A8D3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C519-830D-4FE4-AAB6-200E5FC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5E67-3034-473C-8DDD-465C90F6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573B2-4914-4B4F-AB0A-5D4F296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3149E-AD6B-4EEE-9D05-E09E3F7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E1C2-2C57-4BB1-B87C-56CC289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B45-0F07-43AA-9643-54229F0E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95491-A1F6-4D6D-BE5C-C45B0F7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03F5-88A6-4BB7-9497-32EDB16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92E02-8DEC-4721-B0AB-7B722C3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92A5-6AAA-410D-A508-9F1C6A11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E0006-BB1E-4E72-A97C-B687F62D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EC4-2123-43DA-AD6F-3E0E075E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E4A-A0E7-4203-B17E-40A76BB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859-0E6F-4C2A-91C3-6BE1B30C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B74-E5CE-4023-96FC-3FA6948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BDC-05B0-4D65-A35E-1E42445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1C2-6FE7-48BD-9B8B-E84FB2F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6C5-8D14-4435-9E6D-032B156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52EE-3040-43A6-A439-303C3D4F8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8917-8727-4AE1-BD49-E56AE9DC1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27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143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147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4800600"/>
            <a:ext cx="7162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uine leader is not a searcher for consensus but a molder of consens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33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193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6858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The M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286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480024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 or civilization that continues to produce soft-minded men purchases its own spiritual death on the installment pl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Martin Luther King Jr. - 389 x 400"/>
          <p:cNvPicPr/>
          <p:nvPr/>
        </p:nvPicPr>
        <p:blipFill>
          <a:blip r:embed="rId2"/>
          <a:stretch/>
        </p:blipFill>
        <p:spPr>
          <a:xfrm>
            <a:off x="34290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57150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e cannot liv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martin-luther-king-colo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286000"/>
            <a:ext cx="281952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can't ride your back unless it's ben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martin-luther-king-fa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447200"/>
            <a:ext cx="280512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1040" y="294840"/>
            <a:ext cx="6373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who won't die for something is not fit to liv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reverend-martin-luther-king"/>
          <p:cNvPicPr/>
          <p:nvPr/>
        </p:nvPicPr>
        <p:blipFill>
          <a:blip r:embed="rId2"/>
          <a:stretch/>
        </p:blipFill>
        <p:spPr>
          <a:xfrm>
            <a:off x="2895480" y="2057400"/>
            <a:ext cx="246708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ight delayed is a right denied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Martin Luther King Jr. - 454 x 566"/>
          <p:cNvPicPr/>
          <p:nvPr/>
        </p:nvPicPr>
        <p:blipFill>
          <a:blip r:embed="rId2"/>
          <a:stretch/>
        </p:blipFill>
        <p:spPr>
          <a:xfrm>
            <a:off x="3276720" y="2965320"/>
            <a:ext cx="2209680" cy="206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37:01Z</dcterms:created>
  <dc:creator>Vanessa Collier</dc:creator>
  <dc:description/>
  <dc:language>en-US</dc:language>
  <cp:lastModifiedBy>Vanessa Collier</cp:lastModifiedBy>
  <dcterms:modified xsi:type="dcterms:W3CDTF">2010-04-12T17:20:24Z</dcterms:modified>
  <cp:revision>6</cp:revision>
  <dc:subject/>
  <dc:title>Slide 1</dc:title>
</cp:coreProperties>
</file>